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EFEC9E-2148-4766-9C38-7533F4EE208D}" type="datetime">
              <a:rPr b="0" lang="en-US" sz="1200" spc="-1" strike="noStrike">
                <a:solidFill>
                  <a:srgbClr val="000000"/>
                </a:solidFill>
                <a:latin typeface="Calibri"/>
              </a:rPr>
              <a:t>07/28/26</a:t>
            </a:fld>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FF0B3C-B14F-44F8-9E16-A6415D6086E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ur school needs technology that is user-friendly for elementary-aged students. Students now are having a difficult time using touch pads to operate the laptop’s “mouse” input device.  Also, the primary elementary students (grades K-2) are just learning how to read, so they are unable to use a lot of the features available on the laptops we have now. Also, many of the elementary students have poor keyboarding skills.  They need a technology that they can operate regardless of their keyboarding skills, but that will also enable them to practice and improve their keyboarding capabiliti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n elementary school setting, we need technology that is available and ready to use when we need it, but also that will be out of the way when we don’t need it.  For example, the desktop computers in our classrooms take up too much space.  In an elementary classroom, space needs to be easily transformable so it can be used for centers, small group work, and other such instructional area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ur school currently has wireless networking, online database subscriptions, software programs, and other such technologies.  The use of these technologies is low. We need to be able to enhance the technologies that we already have in place.</a:t>
            </a:r>
            <a:endParaRPr b="0" lang="en-US" sz="1200" spc="-1" strike="noStrike">
              <a:solidFill>
                <a:srgbClr val="000000"/>
              </a:solidFill>
              <a:latin typeface="Calibri"/>
            </a:endParaRPr>
          </a:p>
        </p:txBody>
      </p:sp>
      <p:sp>
        <p:nvSpPr>
          <p:cNvPr id="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70BFDC-F821-4EC9-B23F-40CFF00895D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ldImg"/>
          </p:nvPr>
        </p:nvSpPr>
        <p:spPr>
          <a:xfrm>
            <a:off x="1143000" y="685800"/>
            <a:ext cx="4572000" cy="3429000"/>
          </a:xfrm>
          <a:prstGeom prst="rect">
            <a:avLst/>
          </a:prstGeom>
          <a:ln w="0">
            <a:noFill/>
          </a:ln>
        </p:spPr>
      </p:sp>
      <p:sp>
        <p:nvSpPr>
          <p:cNvPr id="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en and touch screen technology that is available with the tablet PCs is very user-friendly for elementary-aged students.  Students do not have to have the coordination to maneuver an arrow using the touch pad on the laptop.  They can simply touch the screen to operate the table PC.  Also, the students can use drawing software and other such software on the tablet PC. Instead of having to write things in words, they can draw pictures.  Also they can use the pen to write on the tablet PC using the digital ink feature, so even if they have poor keyboarding skills, they can still use the technology.  The tablet PCs also have a full keyboard, so the students will have the opportunity to practice and improve their keyboarding skill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ablet PCs can be stored in a cart.  The batteries of the devices can be charged via the cart and the cart can be wheeled from one classroom to another depending on who wants to use the tablet PCs.  They do not take up table space when they are not in use, so classrooms will not lose any space for centers, small group work, etc.</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ablet PCs have wireless capabilities so the students will be able to utilize the wireless network and wireless databases.  They run Windows Vista, so they will be able to support the latest in educational software.</a:t>
            </a:r>
            <a:endParaRPr b="0" lang="en-US" sz="1200" spc="-1" strike="noStrike">
              <a:solidFill>
                <a:srgbClr val="000000"/>
              </a:solidFill>
              <a:latin typeface="Calibri"/>
            </a:endParaRPr>
          </a:p>
        </p:txBody>
      </p:sp>
      <p:sp>
        <p:nvSpPr>
          <p:cNvPr id="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93ADE5-1E9F-4134-AC56-8C0E96BA140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0945BE-1985-4905-8376-8C6FBBE0C9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FA5AEE-4EAC-429B-94CA-B82FDFB4A7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672212-E46F-4EFC-8788-F8F9E8675B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CF5B0B-CED1-4BD3-BD08-2A6EDB6BB6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3ADA7-52F8-4B5F-A402-660ACDB1E7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A59C5C-8704-4C46-8723-AD7EEED262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651CF6-0F9D-4832-9464-A0D9D7EE09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968D83-56AD-4653-BF30-E2F5DE23D1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CE3F38-FE6A-46E1-B915-7B417BC9C5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5B7DD-DC47-436D-B416-C115C8276A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ECDA2-0C1D-4D4E-99FF-937E162D84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5BB7C-957C-444F-B910-EFD5FC5EDB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12595F-CE9D-4A62-A866-15100D5EEDA2}" type="datetime">
              <a:rPr b="0" lang="en-US" sz="1200" spc="-1" strike="noStrike">
                <a:solidFill>
                  <a:srgbClr val="898989"/>
                </a:solidFill>
                <a:latin typeface="Calibri"/>
              </a:rPr>
              <a:t>07/28/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FF380B-9484-4E13-A379-921B03A3849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echnology Needs of Our School</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lementary student friendly technolog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or keyboarding skil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echnology that’s ready to use &amp; easily stor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nhances use of technologies already in place</a:t>
            </a:r>
            <a:endParaRPr b="0" lang="en-US" sz="3200" spc="-1" strike="noStrike">
              <a:solidFill>
                <a:srgbClr val="000000"/>
              </a:solidFill>
              <a:latin typeface="Calibri"/>
            </a:endParaRPr>
          </a:p>
        </p:txBody>
      </p:sp>
      <p:pic>
        <p:nvPicPr>
          <p:cNvPr id="50" name="Picture 6" descr="Tablet_PC-HP-TC1100.jpg"/>
          <p:cNvPicPr/>
          <p:nvPr/>
        </p:nvPicPr>
        <p:blipFill>
          <a:blip r:embed="rId1"/>
          <a:stretch/>
        </p:blipFill>
        <p:spPr>
          <a:xfrm>
            <a:off x="0" y="0"/>
            <a:ext cx="9677520" cy="7315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ablet PCs Help Meet Needs</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lementary student friendly technolog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or keyboarding skil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echnology that’s ready to use &amp; easily stor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nhances use of technologies already in place</a:t>
            </a:r>
            <a:endParaRPr b="0" lang="en-US" sz="3200" spc="-1" strike="noStrike">
              <a:solidFill>
                <a:srgbClr val="000000"/>
              </a:solidFill>
              <a:latin typeface="Calibri"/>
            </a:endParaRPr>
          </a:p>
        </p:txBody>
      </p:sp>
      <p:pic>
        <p:nvPicPr>
          <p:cNvPr id="53" name="Picture 6" descr="Tablet_PC-HP-TC1100.jpg"/>
          <p:cNvPicPr/>
          <p:nvPr/>
        </p:nvPicPr>
        <p:blipFill>
          <a:blip r:embed="rId1"/>
          <a:stretch/>
        </p:blipFill>
        <p:spPr>
          <a:xfrm>
            <a:off x="0" y="0"/>
            <a:ext cx="9677520" cy="7315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31T00:07:58Z</dcterms:created>
  <dc:creator>Cindy O'Reilly</dc:creator>
  <dc:description/>
  <dc:language>en-US</dc:language>
  <cp:lastModifiedBy>Cindy O'Reilly</cp:lastModifiedBy>
  <dcterms:modified xsi:type="dcterms:W3CDTF">2009-07-31T00:09:26Z</dcterms:modified>
  <cp:revision>2</cp:revision>
  <dc:subject/>
  <dc:title>Technology Needs of Our School</dc:title>
</cp:coreProperties>
</file>